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259-B70A-43A1-B78D-75A6F5BE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002-496F-4470-BA11-7172936E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7BB0-F06E-4C71-AF25-C3FD4F31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C5C-EAE3-4ACA-8929-57E98E49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D02E-AF4F-4267-9821-9F685E89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2263-11CF-4DF9-B30B-32678486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743C-B324-47E1-925B-A9C51377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284A-1920-47CC-AA5A-E76CC27A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2BC2-8A13-4B8B-8D3E-C8685DF0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1C8B-4369-4043-B31C-407386B7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949B-DFBD-4EC4-AE62-EEDC03B6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045-7168-4855-A0B9-A01072B0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0253-CCA9-4391-BCCD-4D124EC0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CC4C-BBF1-4BC9-A95A-6C5FF32C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425A-4F00-45C9-B789-D7890A73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1316-2EBD-4405-B94C-76F11317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DF4D-4C42-4EF0-8EB6-1DDD7C58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1A3F9-BB55-4D79-9918-00626C28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DB17D-414D-4229-8F8B-345E677D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566C5-6086-4F70-A134-7C056F63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4547E-32D8-4BEA-AD45-39F1FDA3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8B0AB-4C4B-42FA-8EB8-A845938A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F79-E577-4881-B722-5D98D1BF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DCEB6-5979-4117-B05F-8A021CC7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4FD34-FD31-4C95-ABCD-9B8D5C10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18F5-CC26-4030-804C-A28ADEC1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28355-3A22-4102-981B-B0E6B41C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A5BF3-F53B-416F-BE00-CEE1912F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FCCB6-5C39-4774-85B9-83019785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D3AD4-707C-4269-9C82-19E34590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702B9-D854-456F-85C4-24810360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1A143-F761-4D1A-8420-777D59E0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03D02-B103-43E0-9495-D22A78AB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710-2412-4A48-8001-7F818E42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B11AC-67A1-4687-9C97-A0E402A4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AC5E2-6A67-4B5B-81CC-6139A3E1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5CDAB-7867-4158-AB13-066C872B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36D65-51A7-4687-97E3-DE4E6C0E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DF9EE-50AD-4D6A-BB4A-F3417555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A1E81-5296-4BD6-A458-BC0BBFF4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019A-DA11-4249-9DF9-944BBF08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F7608-EBD9-4590-BF2D-CA710E21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DA761-D3A8-4E7D-9C04-2A9BF445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E13AE-A979-4EB8-985A-315B0FDC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5A2-BB3B-4141-B445-E99A7B20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104B-70ED-415D-B30B-D4A73A08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ABFED-9EF3-40F7-B4C7-0C2DE9A1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9D9B8-C323-4C66-9C9C-D163AFC9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4EB71-0CCF-4F5F-AA59-437DC8BF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D5C61-4009-4738-805B-6100D144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0B75B-AFB5-489A-9533-07463411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7C7A4-BBBF-4D2E-9C09-E8AE6922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B1425-8105-466C-9D4E-3F22DBF1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0CD99-C947-48C9-9922-7BFFB40A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7BA34-8168-4759-A3C5-AA85E761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7EF-73B4-44B4-BBB4-7B65D86A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0D365-D688-4B83-9902-28E8E349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8EC32-58F7-42A1-A164-8C8A9ABE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99F2F-AF2C-4587-8A06-0B1B26B9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C2547-0B01-41E6-9AE0-41FBAB3F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9201A-0779-4817-B4AA-86F25A77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D098D-B72E-4E8D-9F71-6B14A546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7DD40-F57D-47DC-9F58-8A2AD944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A71BA-EA49-4B8A-A4B2-DEB821AE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4AA78-8078-41FC-B46D-D3027DDF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80CE7-4BF6-4F33-A892-3F57B73F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A61-8ADE-4242-ADF1-0E3ED975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13485-B51E-45E6-96B0-67C79C77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97AE4-0AD1-4279-97F6-E800EB94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4CEF7-0A96-44B6-ACA6-C7806AE7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FDFDC-36C6-440D-A8F2-9B6C90A5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2A5EB-F8A5-4536-91C8-BC849371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4F8C5-1EFE-444B-B8DF-98C0B1DD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EC012-3EEE-42E6-9099-BE7AC528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6AFBE-1F0A-4B70-B6E4-40344951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646BA-A24A-45C9-8512-A67FA057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CCDDB-910D-4BE1-863E-F0CE9F15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5E3-92DD-4100-B6B0-108AFC35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88C59-9D0C-42CF-97A0-A56B0E1C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C2498-F708-46C0-A538-9F27790E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DC7FF-540F-41D2-BD18-8B6863F6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8C08C-FFB8-4666-82DD-65EF446B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41CAE-B325-42C3-988E-5FE32A12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3CF-AD1F-4F80-83F7-DF1F8D0B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E9CB-05F9-466B-B052-D97841C20FE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2D17-9A33-411A-88F5-20A27222D8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D115-D077-4EBE-9A11-A4F0D7C5F9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E103-E37D-42C3-835A-12DB3962853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86B8-AAF7-454F-950A-3E0217CEA6F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B6A9-0A3A-4221-80EA-5DED02DCD48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F8C0-469F-48B2-B3F6-AA41D3794A1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535752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Information Item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acteria TMDL for entire length of Ohio Riv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MDL effort led by US EPA Region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tra Tech lead contract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RSANCO Ro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mbient monitoring data collection (Ohio R and tribs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MDL workgroup routinely meets by conference call to discuss prog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ata Collec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PA received additional data from KY DOW and several municipalities to better define CSO loading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till need data from several CSO communiti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quest made to POTW Committee for additional data (November 1 deadline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Modeling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Working with US Army Corps of Engineers to add WQ module to HEC-RAS mod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ontinue to build boundary condition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libration to begin in November once new data are incorporated into mode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ed to define allocation strateg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tes can provide input upfront or in response to draft allocation strategy once develop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1066680" y="1523520"/>
            <a:ext cx="7467840" cy="20574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imeline provided by EP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asks 1-6 will be ~2 months behind schedule due to CSO data request deadline of Nov 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3124080"/>
          <a:ext cx="7848720" cy="3200400"/>
        </p:xfrm>
        <a:graphic>
          <a:graphicData uri="http://schemas.openxmlformats.org/drawingml/2006/table">
            <a:tbl>
              <a:tblPr/>
              <a:tblGrid>
                <a:gridCol w="1263600"/>
                <a:gridCol w="4680000"/>
                <a:gridCol w="1905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ask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fine, Calibrate/Validate 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/18/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ask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mplete Modeling Results Re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/19/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ask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MDL Scenario Modeling Effo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2/01/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ask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evelopment of Draft TMD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2/28/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ask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MDL Workgroup Mee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3/03/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ask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ublic Meet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3/19/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ask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evelopment of Final TMD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9/30/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3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16:24:24Z</dcterms:created>
  <dc:creator>sam</dc:creator>
  <dc:description/>
  <dc:language>en-US</dc:language>
  <cp:lastModifiedBy>jklear</cp:lastModifiedBy>
  <dcterms:modified xsi:type="dcterms:W3CDTF">2013-10-15T15:15:52Z</dcterms:modified>
  <cp:revision>1</cp:revision>
  <dc:subject/>
  <dc:title>Bacteria TMDL Update</dc:title>
</cp:coreProperties>
</file>